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48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6765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6765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4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4024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024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CFB-1C86-459A-9D3C-03D42AC8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30E-4297-4DD2-A814-6FD60F82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1D4-2861-44A4-B6FF-E0D5FF12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A83-A30F-4797-8EF7-33F72F28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098-4B07-4C42-A023-125A3A53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C66-9696-476F-89F2-76F5D0D8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610-9BB5-497E-B71C-4586D580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70772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ACF-71B7-4B35-A3F3-4CAEED2D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EB1-394D-478E-A097-3901EE03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5800" y="40248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B5F-39E2-49ED-8D0A-5172CCD4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70772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032-0CD8-43A6-A923-B3AAB89B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39720" y="16765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993640" y="16765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85800" y="4024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39720" y="4024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993640" y="4024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D81-AB87-45EB-9DC2-536CC48D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6440" y="-3240"/>
            <a:ext cx="8778960" cy="3988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33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339933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339933"/>
                </a:solidFill>
                <a:latin typeface="隶书"/>
                <a:ea typeface="隶书"/>
              </a:rPr>
              <a:t>章  微型计算机的系统结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22860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6477120" y="228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33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4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B5D0-4BE3-4CC4-85BE-53B35E4B686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19.xml"/><Relationship Id="rId14" Type="http://schemas.openxmlformats.org/officeDocument/2006/relationships/slide" Target="slide19.xml"/><Relationship Id="rId15" Type="http://schemas.openxmlformats.org/officeDocument/2006/relationships/slide" Target="slide19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2.xml"/><Relationship Id="rId22" Type="http://schemas.openxmlformats.org/officeDocument/2006/relationships/slide" Target="slide22.xml"/><Relationship Id="rId23" Type="http://schemas.openxmlformats.org/officeDocument/2006/relationships/slide" Target="slide22.xml"/><Relationship Id="rId24" Type="http://schemas.openxmlformats.org/officeDocument/2006/relationships/slide" Target="slide1.xml"/><Relationship Id="rId2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.xm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隶书"/>
              </a:rPr>
              <a:t>第</a:t>
            </a:r>
            <a:r>
              <a:rPr b="1" lang="zh-CN" sz="3600" spc="-1" strike="noStrike">
                <a:solidFill>
                  <a:srgbClr val="990033"/>
                </a:solidFill>
                <a:latin typeface="隶书"/>
              </a:rPr>
              <a:t>2</a:t>
            </a:r>
            <a:r>
              <a:rPr b="1" lang="zh-CN" sz="3600" spc="-1" strike="noStrike">
                <a:solidFill>
                  <a:srgbClr val="990033"/>
                </a:solidFill>
                <a:latin typeface="隶书"/>
              </a:rPr>
              <a:t>章  微型计算机的系统结构</a:t>
            </a:r>
            <a:endParaRPr b="1" lang="en-US" sz="3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" action="ppaction://hlinksldjump"/>
              </a:rPr>
              <a:t>2.1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2" action="ppaction://hlinksldjump"/>
              </a:rPr>
              <a:t>PC/XT、PC/AT ISA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3" action="ppaction://hlinksldjump"/>
              </a:rPr>
              <a:t>与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4" action="ppaction://hlinksldjump"/>
              </a:rPr>
              <a:t>EISA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5" action="ppaction://hlinksldjump"/>
              </a:rPr>
              <a:t>总线技术的微型计算机结构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6" action="ppaction://hlinksldjump"/>
              </a:rPr>
              <a:t>2.2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7" action="ppaction://hlinksldjump"/>
              </a:rPr>
              <a:t>PCI、AGP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8" action="ppaction://hlinksldjump"/>
              </a:rPr>
              <a:t>局部总线的微型计算机系统结构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9" action="ppaction://hlinksldjump"/>
              </a:rPr>
              <a:t>2.3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0" action="ppaction://hlinksldjump"/>
              </a:rPr>
              <a:t>Pentium 4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1" action="ppaction://hlinksldjump"/>
              </a:rPr>
              <a:t>微型计算机系统结构简介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2.1.5  PC/XT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IS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EIS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总线信号引脚的定义 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70000" y="205740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2.4  X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ISA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EISA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总线扩展槽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766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25780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76520" y="914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.1  X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EISA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总线引脚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面信号定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76520" y="1447920"/>
          <a:ext cx="6095880" cy="47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0958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5562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2  X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IS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总线引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面信号定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1828800"/>
          <a:ext cx="617220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617220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936840" y="1447920"/>
            <a:ext cx="9118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3  X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IS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总线引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面信号定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371600" y="762120"/>
          <a:ext cx="5289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5289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2.2  PCI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AGP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局部总线的微型计算机系统结构 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" action="ppaction://hlinksldjump"/>
              </a:rPr>
              <a:t>2.2.1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2" action="ppaction://hlinksldjump"/>
              </a:rPr>
              <a:t>PCI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3" action="ppaction://hlinksldjump"/>
              </a:rPr>
              <a:t>总线的微机系统结构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 algn="just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4" action="ppaction://hlinksldjump"/>
              </a:rPr>
              <a:t>2.2.2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5" action="ppaction://hlinksldjump"/>
              </a:rPr>
              <a:t>PCI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6" action="ppaction://hlinksldjump"/>
              </a:rPr>
              <a:t>总线的特点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7" action="ppaction://hlinksldjump"/>
              </a:rPr>
              <a:t>	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 algn="just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8" action="ppaction://hlinksldjump"/>
              </a:rPr>
              <a:t>2.2.3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9" action="ppaction://hlinksldjump"/>
              </a:rPr>
              <a:t>AGP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0" action="ppaction://hlinksldjump"/>
              </a:rPr>
              <a:t>总线的微机系统结构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 algn="just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1" action="ppaction://hlinksldjump"/>
              </a:rPr>
              <a:t>2.2.4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2" action="ppaction://hlinksldjump"/>
              </a:rPr>
              <a:t>PCI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3" action="ppaction://hlinksldjump"/>
              </a:rPr>
              <a:t>、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4" action="ppaction://hlinksldjump"/>
              </a:rPr>
              <a:t>AGP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5" action="ppaction://hlinksldjump"/>
              </a:rPr>
              <a:t>总线接口槽引脚信号定义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 algn="just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6" action="ppaction://hlinksldjump"/>
              </a:rPr>
              <a:t>2.2.5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7" action="ppaction://hlinksldjump"/>
              </a:rPr>
              <a:t>AGP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8" action="ppaction://hlinksldjump"/>
              </a:rPr>
              <a:t>总线的特点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9" action="ppaction://hlinksldjump"/>
              </a:rPr>
              <a:t>	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 algn="just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20" action="ppaction://hlinksldjump"/>
              </a:rPr>
              <a:t>2.2.6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21" action="ppaction://hlinksldjump"/>
              </a:rPr>
              <a:t>PCI/AGP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22" action="ppaction://hlinksldjump"/>
              </a:rPr>
              <a:t>主板简介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23" action="ppaction://hlinksldjump"/>
              </a:rPr>
              <a:t>	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">
            <a:hlinkClick r:id="rId24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2.1  PCI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线的微机系统结构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5120" y="1981080"/>
            <a:ext cx="790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2.5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典型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PCI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局部总线的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PCI/IS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系统结构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90880" y="12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867640" cy="51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2.2  PCI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线的特点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133360" y="2362320"/>
            <a:ext cx="6172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高性能         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线性突发传输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减少存取延迟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采用总线主控和同步操作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不受处理器限制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600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总线的特点主要表现在以下几个 方面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5640" y="167652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适用于各种机型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兼容性强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预留扩展空间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成本低、效率高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向前的扩展性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2.3  AGP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总线的微机系统结构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44840" y="1600200"/>
            <a:ext cx="729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2.6  AGP/PCI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总线微机系统结构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2408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1543" r="0" b="5215"/>
          <a:stretch/>
        </p:blipFill>
        <p:spPr>
          <a:xfrm>
            <a:off x="685800" y="1447920"/>
            <a:ext cx="5943600" cy="51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2.4  PCI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AGP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线接口槽引脚信号定义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43760" y="1371600"/>
            <a:ext cx="10335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4  PCI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总线插槽引脚信号引线定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52480" y="1676520"/>
          <a:ext cx="495324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49532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本章学习目标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C/X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总线结构的计算机系统及其特点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C/AT I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总线结构的计算机系统及其特点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EI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总线的计算机系统结构和特点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总线的计算机系统的结构特点和基本参数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速图形接口总线的微机系统结构特点和基本参数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1295280"/>
          <a:ext cx="815364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15364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2.5  AGP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线的特点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2209320"/>
            <a:ext cx="67816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采用双重驱动技术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采用带边信号传送技术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采用内存请求流水线技术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减少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线的传输压力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2.6  PCI/AGP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主板简介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常见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板外形图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板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插座、内存、控制逻辑芯片组、软驱及硬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插座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/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扩展插槽、键盘鼠标接口插座、并行及串行接口插座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US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用串行接口插座、声音输出输入插座及电源电路等组成。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该类主板支持高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0M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外频并且采用多外频免跳频率微调技术，使外频可调，方便用户选择不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类型。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71952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27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5424480" cy="4454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165800" y="914400"/>
            <a:ext cx="546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7  PCI/AG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总线结构的主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3  Pentium 4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微型计算机系统结构简介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entium 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00M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系统总线，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entium 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处理器的微型计算机系统结构示意图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8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芯片组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00M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系统总线，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 4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通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CH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芯片（南桥芯片）的配合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Ultra   DMA/33/66/1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传输规范。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线，内存支持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G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存储器容量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板的外形图。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609588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2.8  Pentium 4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微处理器微机系统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7160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51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1431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联想SX2E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162760" cy="4010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666880" y="54864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9  P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主板的外形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8954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</a:rPr>
              <a:t>本章到此结束，</a:t>
            </a:r>
            <a:endParaRPr b="1" lang="en-US" sz="4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</a:rPr>
              <a:t>谢谢您的光临！</a:t>
            </a:r>
            <a:endParaRPr b="1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endshow"/>
          </p:cNvPr>
          <p:cNvSpPr/>
          <p:nvPr/>
        </p:nvSpPr>
        <p:spPr>
          <a:xfrm>
            <a:off x="6069600" y="634032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2.1  PC/XT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PC/AT IS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EIS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总线技术的微型计算机结构 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" action="ppaction://hlinksldjump"/>
              </a:rPr>
              <a:t>2.1.1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2" action="ppaction://hlinksldjump"/>
              </a:rPr>
              <a:t>PC/XT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3" action="ppaction://hlinksldjump"/>
              </a:rPr>
              <a:t>总线技术的微型计算机结构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4" action="ppaction://hlinksldjump"/>
              </a:rPr>
              <a:t>2.1.2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5" action="ppaction://hlinksldjump"/>
              </a:rPr>
              <a:t>PC/AT ISA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6" action="ppaction://hlinksldjump"/>
              </a:rPr>
              <a:t>总线的微机系统结构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7" action="ppaction://hlinksldjump"/>
              </a:rPr>
              <a:t>2.1.3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8" action="ppaction://hlinksldjump"/>
              </a:rPr>
              <a:t>EISA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9" action="ppaction://hlinksldjump"/>
              </a:rPr>
              <a:t>总线的微机系统结构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0" action="ppaction://hlinksldjump"/>
              </a:rPr>
              <a:t>2.1.4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1" action="ppaction://hlinksldjump"/>
              </a:rPr>
              <a:t>PC/XT、PC/AT ISA、EISA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2" action="ppaction://hlinksldjump"/>
              </a:rPr>
              <a:t>总线的特点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3" action="ppaction://hlinksldjump"/>
              </a:rPr>
              <a:t>2.1.5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4" action="ppaction://hlinksldjump"/>
              </a:rPr>
              <a:t>PC/XT、ISA、EISA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5" action="ppaction://hlinksldjump"/>
              </a:rPr>
              <a:t>总线信号引脚的定义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">
            <a:hlinkClick r:id="rId16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2.1.1  PC/XT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线技术的微型计算机结构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6019560"/>
            <a:ext cx="61722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2.1  PC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PC/XT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总线的微机系统结构示意图</a:t>
            </a:r>
            <a:endParaRPr b="1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7164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685800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2.1.2  PC/AT IS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总线的微机系统结构 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72520" y="1219320"/>
            <a:ext cx="42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2.2  80486  PC AT/ISA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总线系统结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99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200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019920" cy="49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2.1.3  EIS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总线的微机系统结构 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6095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2.3  EIS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总线微机系统结构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38240" y="11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267160" cy="45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2.1.4  PC/XT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PC/AT ISA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EISA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线的特点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6520" y="2057040"/>
            <a:ext cx="4038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PC/XT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总线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0481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XT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总线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088CPU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兼容，具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根数据总线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根地址总线、主要应用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X8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体系结构的微机系统中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971800" y="1219320"/>
            <a:ext cx="35812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ISA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总线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514600"/>
            <a:ext cx="72392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028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兼容，具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数据线，支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的数据存取；具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地址线，可寻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6M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存储器空间，主要应用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028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及以上的微处理器组成的微机系统中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8120" y="10663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EISA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总线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057400"/>
            <a:ext cx="76201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EIS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的微处理器兼容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EIS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总线在信号定义与物理电气连接上完全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总线兼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具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的数据线，支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的数据存取，支持数据突发式传输。主要应用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微处理器组成的微型计算机系统中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06:01:07Z</dcterms:created>
  <dc:creator>liwu</dc:creator>
  <dc:description/>
  <dc:language>en-US</dc:language>
  <cp:lastModifiedBy>wuxian</cp:lastModifiedBy>
  <dcterms:modified xsi:type="dcterms:W3CDTF">2002-01-23T04:36:35Z</dcterms:modified>
  <cp:revision>36</cp:revision>
  <dc:subject/>
  <dc:title>PowerPoint 演示文稿</dc:title>
</cp:coreProperties>
</file>